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4C6-B3A5-4454-8E3B-6ED1177A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D9F-5E94-41A9-B139-91AF727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A5498-ED8D-4CB3-929F-CD2D4B3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22203-03A6-46BF-A8F5-B794C5B0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C6868-135D-4743-B342-9FAA0207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CADE-48E6-4A5D-92F4-D38E942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D4A4-B3F1-43F7-B5CC-D7F0B5F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B8043-73A4-4465-8BAD-398127E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8F5B7-3888-404C-8139-3C4FCDD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6D5A-5BEF-4710-8F02-31A695F1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DC577-E88C-4C7B-85FB-8D6D7D98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3A069-8DE6-4B6B-AA21-8A007B5A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979-69EE-4827-B335-F86688DC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70723-E12D-40A1-A222-54E75FD7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F0963-30F9-4D21-9EA2-5895F609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A66AB-83FD-428C-803B-D7BC46B3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09BA1-4705-49DE-9DEE-1AE8E4B2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78B08-CA90-4E8B-A9A6-16E28076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C8C00-A637-472E-965B-808D9CF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21334-B8C7-45ED-976D-2D8A143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C75AB-EC81-422A-92AA-2155EB6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5BD4F-01D3-4D31-A1FE-DD4D415C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06FD2-CB33-4505-A169-773F9C98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494-BE40-461E-A111-929BC173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32BA5-064E-48E4-BA47-FE66F41F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A5DF-436E-4ACC-9C64-B2BFC2ED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E17D-5D5E-4A84-A034-7151AEE2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96DB-247C-4D8B-A8A7-C7B4265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D0555-7F04-44C4-BBB4-3F6AA36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B8F8F-09B3-4EDF-A3CA-DD837A3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58034-B875-4A62-99DF-403E962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FA7D9-26FF-477F-92C4-8DC3E76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4D44-4573-4549-90B5-51E60DD0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46115-D83C-4153-A417-2D951DBD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35C0-0779-49BB-B14E-B99F28C7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690B0-BFCF-4ED1-B375-08FF5708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A2040-A168-4904-8325-883CADDB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3EF4-811E-43A4-BDB4-A0C13CDA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6100-ADB7-4E17-89FB-C4643C9C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DDD32-7218-4376-84EF-9F6C129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F4098-955B-4112-B834-4AC7614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D7D0C-6158-4829-9632-52D435E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C64DB-14B4-4183-B30B-5B690A10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B3A55-9F8C-430D-A532-2BA7DB8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97534-C86A-4869-978F-FC142CC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1C3D-9BC0-4716-9A8C-8700024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6A595-88E4-44ED-A566-9954895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F5981-567F-4E7E-A836-418A77F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0E140-9379-4404-AB14-BA256793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F2C1D-1699-4F0A-9D62-058D5A58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A813B-870E-4359-9585-7B68AB59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DF9CA-0B5C-473C-BCDE-6CAAEC20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61A4C-4404-463D-96E4-5761FD8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EEFDD-8AE0-4CFC-A13F-56C0DC3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C9E29-9D1D-460E-8C70-17BF2A0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03954-3892-4777-A250-A97174D6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4B9-8B50-4F2E-B6A8-C97B8E2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ED0C9-EE31-4091-89C5-9A82F72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A5DDA-1BFC-4D44-AD6F-4B84DB8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724F4-618A-4A93-8420-0DBED59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11ABD-39DB-453B-A27A-2DC82B4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F592C-DC8E-4810-AD11-A5F735D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F00BE-C447-4939-9C22-1E94A490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94BC6-E2C6-41D1-90DB-965EEE4A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6E674-E829-4947-A310-D18D1757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8DD88-8AE8-4D70-9843-A99BEA97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21FC9-1D5D-4963-A71A-49AE297D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D608-CC96-45A9-AEE1-4BB1D9D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B1669-E8A4-48B3-9779-47E8A0E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48025-7ABE-40AB-9E51-A7F414B4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E8718-28F3-40C3-9F6A-251B817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76186-023B-4F28-A525-79111BF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7DFA6-3D96-413B-A7AA-0BDC2B8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0ECC6-7581-4D55-9C0E-58C93C0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537BB-FC1B-4ACD-AE81-9E990C9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A1A9B-65A1-4585-8F68-177A3E88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44200-DD2D-4EB7-90A6-61C3ECC9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B098B-A99C-48CB-8616-D4695047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65B2-B9D1-4C7B-8447-5091F18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4FF43-75BA-4ECE-96E4-DC20B4BE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F68EC-CEC2-4F9E-8CDD-6E9285A4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E0E31-36E2-493C-93B7-53D6A018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7BBEF-B125-4EB4-9960-4B808E5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82333-B790-4EF2-9E24-202E5CD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1C45C-8611-4448-8892-15A30064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A835B-2DA4-4E71-8EC0-E7EB761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CB712-2098-4045-9C41-2E4FE83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66FD6-B7FD-4D26-9E38-9F4BCCA4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BFF15-A72D-40F2-B935-2905CE78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45E9-2AD9-4764-8F73-AAD5F2C2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B9E66-A270-4414-B7F3-9FC25584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6BE0F-484F-4E88-86F9-120F0A83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4B78C-EBAE-4CB4-93AC-BD1A064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0AEEC-4C50-41AA-8338-D5CAF6A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8F4A1-3E72-4C67-8BF0-71403FDA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E91E0-A0AA-4345-B74E-B97FD8B5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10BBD-5847-4A64-AE06-41E1B3B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C496F-00FC-4556-9B82-036AD75A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E517D-F1C0-4FF5-B18D-844368A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C8B5B-73B8-4C4A-B807-6D05B09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3775-D755-4B67-8A06-00B7633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EFBEC-915D-41E6-A247-0BB30FF1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C90B7-D17B-40F8-9886-AE2A2A1F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D06D2F-A080-460B-A516-8909D2ED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8AA52-B25D-4FE0-9A42-9080E372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227B2-2AB4-4E76-AD45-615619C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55380-B039-495A-A1A7-AD6D016D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E472C-25FD-4D45-8BC5-0FA861A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6798D-DAA6-4310-8F01-440A9104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CD361-3549-42C2-B997-0239DB2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FC075-73BA-4414-A4BA-907FE7C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246-1356-4AC9-BDC7-1BA0254A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4986-175E-4428-9EDF-6228E84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828C5-9209-4A35-A28D-CDA0EAC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A7671-9356-4A69-843D-542F9F4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56236-F302-47A7-8915-67481AAF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C49B8-C9CD-4D80-953D-B8B8C10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981B0-676F-4723-B722-55DB1DF9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076FD-D72C-47EF-87E7-828C092F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1E138-C018-4B97-A001-727B4996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60B31-7EDC-4B4B-ACC9-FF070FA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49CC1-6E14-443E-A458-FE3835F1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1A951-BFE6-4B51-99EF-D938423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94C-F9D8-43C8-B1DC-A84CF36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757CE-B7B4-4BAC-86C9-E376348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85B13-DAA8-4384-B205-A967CB8E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28043-E499-4C2D-BEEB-F1992042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C961F-B57C-442A-8C3E-5672610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87B41-A410-47BB-AFE2-E7740CD5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ACFC0-D596-48A5-AEC2-E871A3F2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588EF-E69B-4157-AB2E-8CF1E42C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F405A-0E19-495D-833F-8D4D0817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F11E7-1230-48E2-A595-DA05179A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CA5AA-DA22-4A12-8B2C-BF76489F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F55-B249-42B8-BEA3-3EADE6B7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72B33-69E8-407D-A918-E772862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C5070-EC5C-43DB-BA04-490725FE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090C4-550A-401D-8C1A-5AFEB7E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E1478-0049-4CB5-A183-DFF1F55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618E3-8118-43B4-BD2F-EBD16A2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A8F28-21E0-453C-8BEB-75A89A0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D3283-E009-472F-8DC3-C7633ABD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963B2-2ABC-4068-AAEB-FE7088D2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1C3FA-17F1-4B38-A28E-2EC4D22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D9C00-FFB9-48A4-A289-1D29372A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1FB-D8D1-431C-A016-FE0D385D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A52C4-3BDD-4F1E-8929-113CF32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B15A6-B6EA-4558-82E6-71B6AB0D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30FDD-BC8C-4FD3-B174-87338EB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1D445-3A41-4BF1-9F33-38B01038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2F67C0-2EBF-430D-B614-D564A79E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25227-D6A0-4A47-B801-156FEB2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1DEA4-4562-46C5-AF5F-B6B041E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F6CFC-28A4-420C-B0D2-B4DF1B8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D651F-96C1-4173-9C83-6F1BE3D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92039-8508-407C-8BAD-828C59DC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4604-2D2E-4BBD-880D-9E90B542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4185E1-6DAB-413A-B107-39CE4ACD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B20EF-27C4-433D-8DFD-6B8941B5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933EB-042D-403F-95BF-154EF658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B087B8-1772-49B7-9DA0-5037FB64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8EF23-6282-40D5-AB01-11CBE66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83C26-6BED-4267-98E0-A270976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46E60-1FD8-4D4F-BD60-CF6CCBC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20223-55E4-492A-8E00-7D927BB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52438-AE2D-40D7-8B8A-D44CC09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DA4F93-CABA-47E9-B956-BA1D732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9A93-02D6-42DE-BD28-65F51E1B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0DF99B-5274-48DA-B317-26B47EE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8D9AC-E716-4CC6-A439-45DACC89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8407D-74C7-4418-BC36-D8EDB071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3C9E-5EB9-45E9-8561-CCA60044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577F-7AC1-4053-95E2-F7B93F0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07D1-B93F-4AA2-B927-B1AD75A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778A-7BAB-4CF0-A213-1E92163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614-473F-4ADD-9279-7D7ED024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1DEF-31A0-4E96-A0EF-4BFC8D9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8F17-0DAC-46B4-A43A-2528900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7C37-E3E6-4D86-8E18-90DCBDD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FB6F-95C0-4FD2-8445-008EA74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F724-B025-4DF3-8C8B-79286C1D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6BC2-E7D1-4128-B1AB-909C2ACF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027E-2C45-4C7E-A66F-EAAD427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FE87-7BB2-45A6-BAC0-88AD976E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6562-4169-4167-B74E-6A3A7A5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8FB2-8F36-4E31-BF46-898D00D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98B-4F64-4BCA-97DA-38CE2FC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F40F-4AF5-4960-8830-507C065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6A8C-E319-4F7C-AB93-0E92263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06BB-6EA2-4A3B-8FB2-32B7728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FCA2-266B-4B52-8291-4540358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B69F-932F-422D-BCBC-FBDA388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E53D-853B-4EFF-BFCE-1C6C8DE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F7B3-0BCD-4AE5-8011-1EAF4A6E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7359-5F04-4E61-8317-07595AC9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1D7A-20F6-4973-85C0-FF856446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F0A9-B990-4015-98EF-961F13E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27E-FC72-4B6C-BDC6-6D56B20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52D4-8174-4290-84D3-A993876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CE5E-B859-4A5C-A6DB-987B9237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006C-57C7-4494-8B15-D0CA0187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A3F7-BB4C-46D0-A139-D6845DE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21B1C-9E34-4321-B5A1-9F5D3142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AC1C-7007-4644-B9FE-9A3E142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9DB2-6428-4A9D-9942-5AAC142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27FC-54CE-422D-B067-74F7D1B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B0DE-99DE-4292-BD1C-DDEFCB9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B798-F8E1-4DEA-97DE-E783ABB0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495-6747-4593-B2C7-E8C976E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279C-E9E4-4855-B254-6B709C9A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355F-E5E6-40C0-850C-FA826C07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90AA-F989-44E9-B552-6DA56678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A35F-A575-43C5-92B3-D1085520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3969-FF66-4131-9321-1547575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7C1D-BB60-45B3-96AB-941EA546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CFE4-5336-48C9-95A8-2A70570B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C615-ADC4-4903-9171-A8A749B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4958-C066-4D2E-8804-78DBEBE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0698-4BD7-4132-8CF6-AE289B5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CE8-7E7F-4141-921A-DB6B5D0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B141-F3FA-4BBF-9345-6D60F24C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0889-E718-487A-B7D3-4767DDF1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0040-41C9-4B6B-9ECC-4041C8B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7861-007E-4E1C-A6E2-86589573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9681-1515-44C0-9405-F262AAA1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1B40-1896-4572-81A6-076875E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A1BD7-3BCF-4065-AC57-0322DE39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116D-DA10-4F0A-986D-79FAF628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77E90-22C6-4370-B10E-672F2EE3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C9C2-6056-4F5E-BE00-3FC24F3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96A-C515-4902-81E6-AF39CC59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906D-AE37-457D-9E5D-CB26C86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BA07-C63D-46B8-BAC7-67F605D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B579-C28C-490B-9743-3E90253E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87D3B-3DEE-4F5F-BC80-566747DF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3479-9D3A-4D65-B88A-E7F66C73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BC19-8EA0-4B64-9D61-7D3A2A41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60AC-A37B-4EDF-807D-9AD717A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0CDA-E2D4-4A5E-B853-629C140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81F56-B210-4811-BCAC-62D1726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26DBE-BF35-4ACC-A9A6-00AF199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723-3FA3-42DE-AE2F-D0BDA75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08AD-0B37-4D43-9108-695A5934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35C94-6585-4BEB-B6F8-7181E49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AC6C-1DD3-41C1-AC40-27F31CF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343F5-5CEB-4A4E-891C-7B76D93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B21EF-C973-41DA-A7F6-3CC42AE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5AD35-7B67-4B2B-88C1-BFA43D42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59EA-F8CA-4129-8115-4F76FCE6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5E70A-E7A6-4C53-AC34-8DFD47AF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7745-B20E-4344-B691-B6EFF3A9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49277-3770-4FDD-8323-E950C66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BAC-41A4-473F-A133-2AF6060B6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1DF6-E925-488C-A807-E6C6ABA17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8242-8953-4885-8EBF-D583ACDDC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0E1-7407-4726-B1ED-743DF5FF2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627-3549-4B5B-9E6B-A296FC8E2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10DC-0699-4ACD-90C7-59DEBDEC5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612B-320F-464E-8D8F-C22F753064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152-882C-4600-902F-BBD3BA6BF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2C8-C253-49FF-92F2-F1E0611CD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54F4-CE84-4928-B713-D2328063D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0BC-0A05-40E3-9CCA-3D0B6D95C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F9A1-7501-4E40-B4D1-F81079CD2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75E1-54E9-4341-B95A-3DD20153D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062-FD5A-4FF0-8169-72A4ED1DB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83D5-31D4-4C25-B5E6-80D613E4A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C45-930E-48C8-B2AA-DD4089F3D7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AF0C-5D1C-40C9-9D4F-927413E0E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22F-0337-4C62-BE00-45C95C2461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38CF-9523-4A14-BC75-55FABBFD5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E324-0E7B-4AA6-B2FC-A9734429E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28EF-031D-4C9C-B43A-88CCEDF493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3BD-1637-41AC-92CB-3A0BBB116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C86-AA51-446D-B53F-65E7A7CDC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387-0A9C-4ED6-98F8-7DF4DD9F8C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DC8-C79A-4230-A475-992FFA071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B921-6B44-4289-88DF-4C68EC177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41AC-8868-461C-834E-F460E308E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33A9-80A5-4B06-87F3-44559ED781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02A6-3C5D-449B-A8E9-E75D0061A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FEE-F802-42A5-B648-25607FC4A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DA4-0142-4D41-99C0-6417CADFD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D37-C537-4C92-9D6D-F8E53C548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D0B-6E4A-415A-BFB5-C3E104D50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4BA-8CDC-4BF0-9E6B-651C1906C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FD6-A3D0-4BEF-B4CA-7B9903677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B344-C42D-4E30-8CF9-DEC411CB3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E0C7-4276-43B4-8ECC-F41572ABF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A0D5-9BAA-4647-B29E-EF3482A0F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2CF-648D-496B-84F5-0867BEB2F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BCF-2839-4BE7-8917-77074378B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57440" y="2604960"/>
            <a:ext cx="58291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366840" y="776160"/>
            <a:ext cx="8410320" cy="5305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5148360" y="3659040"/>
            <a:ext cx="23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076720" y="43513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257880" y="494172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227640" y="5589720"/>
            <a:ext cx="20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8609" descr=""/>
          <p:cNvPicPr/>
          <p:nvPr/>
        </p:nvPicPr>
        <p:blipFill>
          <a:blip r:embed="rId1"/>
          <a:stretch/>
        </p:blipFill>
        <p:spPr>
          <a:xfrm>
            <a:off x="309600" y="1747800"/>
            <a:ext cx="8524800" cy="3362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7777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7585" descr=""/>
          <p:cNvPicPr/>
          <p:nvPr/>
        </p:nvPicPr>
        <p:blipFill>
          <a:blip r:embed="rId1"/>
          <a:stretch/>
        </p:blipFill>
        <p:spPr>
          <a:xfrm>
            <a:off x="1038240" y="907920"/>
            <a:ext cx="7067520" cy="223848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7586" descr=""/>
          <p:cNvPicPr/>
          <p:nvPr/>
        </p:nvPicPr>
        <p:blipFill>
          <a:blip r:embed="rId2"/>
          <a:stretch/>
        </p:blipFill>
        <p:spPr>
          <a:xfrm>
            <a:off x="557280" y="3287880"/>
            <a:ext cx="8029440" cy="22287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4211640" y="20750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7020000" y="1557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005600" y="206064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036880" y="3933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2195640" y="4508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5003640" y="3860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5003640" y="44658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7812000" y="38894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97960" y="447984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876240"/>
            <a:ext cx="8534160" cy="5105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361620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451640" y="3645000"/>
            <a:ext cx="15130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76360" y="42782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2089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00720" y="5516640"/>
            <a:ext cx="15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04800" y="809640"/>
            <a:ext cx="7934400" cy="523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995640" y="208908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651640" y="276696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788000" y="337176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87708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6012000" y="48690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604800" y="2224080"/>
            <a:ext cx="7934400" cy="2409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003640" y="290988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494320" y="3514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1185840"/>
            <a:ext cx="8544240" cy="4486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4072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157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38280" y="1733400"/>
            <a:ext cx="7867440" cy="3391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8036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408800" y="4292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85840" y="1504800"/>
            <a:ext cx="8572320" cy="3848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356000" y="319716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4356000" y="478152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576360" y="1833480"/>
            <a:ext cx="7991280" cy="3191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8894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3995640" y="4422600"/>
            <a:ext cx="38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33240" y="1224000"/>
            <a:ext cx="7877520" cy="4410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2843280" y="33433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2843280" y="45100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2914560" y="52164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4:5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